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219-6A45-411C-BEA1-655566CB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F42-6AEE-48D2-8F18-C28AA4CC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299-A7DB-4B4C-AE8C-D252A941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1F5-7C01-479F-8738-870E5353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968-1B6D-4D16-839B-8FB8C05A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375-E161-4142-8F0C-9F27BC8F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7B3-BC44-42F7-A93E-C7FC2D42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C20-303A-4F5D-BEFF-4373B94A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7AB-E83E-444D-8B50-79F44BF4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5B7-7B92-4C94-BDCA-4D572735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719-5048-4333-9B39-DBCDDC8B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EC5-7307-4A64-AF29-1B0FF55B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0476-1D03-47C9-8F4C-5A6188F863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Голосеменн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28036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77933c"/>
              </a:solidFill>
              <a:latin typeface="Calibri"/>
            </a:endParaRPr>
          </a:p>
        </p:txBody>
      </p:sp>
      <p:pic>
        <p:nvPicPr>
          <p:cNvPr id="43" name="Рисунок 3" descr="C:\Program Files\Physicon\Open Biology 2.5\content\chapter4\section3\paragraph5\images\04030502.jpg"/>
          <p:cNvPicPr/>
          <p:nvPr/>
        </p:nvPicPr>
        <p:blipFill>
          <a:blip r:embed="rId1"/>
          <a:stretch/>
        </p:blipFill>
        <p:spPr>
          <a:xfrm>
            <a:off x="611280" y="1916280"/>
            <a:ext cx="806436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24000" y="26028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лосемен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растения, которые образуют семена, но не формируют цветков и плодов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семена лежат открыто на поверхности чешуек шише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ло 700 видов;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на наибольшая продолжительность жизни - до 3 - 4,5 тыс. л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www.megabook.ru/MObjects2/data/pict2001/e01032.jpg"/>
          <p:cNvPicPr/>
          <p:nvPr/>
        </p:nvPicPr>
        <p:blipFill>
          <a:blip r:embed="rId1"/>
          <a:stretch/>
        </p:blipFill>
        <p:spPr>
          <a:xfrm>
            <a:off x="395280" y="100080"/>
            <a:ext cx="221940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www.megabook.ru/MObjects2/data/pict2004/biology/biol147.jpg"/>
          <p:cNvPicPr/>
          <p:nvPr/>
        </p:nvPicPr>
        <p:blipFill>
          <a:blip r:embed="rId2"/>
          <a:stretch/>
        </p:blipFill>
        <p:spPr>
          <a:xfrm>
            <a:off x="6056280" y="93600"/>
            <a:ext cx="292428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Ребяты\Мои документы\Мои рисунки\Рисунок1.jpg"/>
          <p:cNvPicPr/>
          <p:nvPr/>
        </p:nvPicPr>
        <p:blipFill>
          <a:blip r:embed="rId3"/>
          <a:stretch/>
        </p:blipFill>
        <p:spPr>
          <a:xfrm>
            <a:off x="2987640" y="3429000"/>
            <a:ext cx="2905200" cy="30481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2987640" y="692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Хвой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Сосновый бор"/>
          <p:cNvPicPr/>
          <p:nvPr/>
        </p:nvPicPr>
        <p:blipFill>
          <a:blip r:embed="rId1"/>
          <a:stretch/>
        </p:blipFill>
        <p:spPr>
          <a:xfrm>
            <a:off x="179280" y="404640"/>
            <a:ext cx="886788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artsait.ru/art/sh/shishkin/img/43.jpg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900000" y="11736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бораторная рабо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Строение хвои и шишек голосеменных растени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268280"/>
          <a:ext cx="8497800" cy="3764160"/>
        </p:xfrm>
        <a:graphic>
          <a:graphicData uri="http://schemas.openxmlformats.org/drawingml/2006/table">
            <a:tbl>
              <a:tblPr/>
              <a:tblGrid>
                <a:gridCol w="1290600"/>
                <a:gridCol w="857160"/>
                <a:gridCol w="1509840"/>
                <a:gridCol w="1508040"/>
                <a:gridCol w="919080"/>
                <a:gridCol w="1062360"/>
                <a:gridCol w="1350720"/>
              </a:tblGrid>
              <a:tr h="627120"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на ве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чешу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обыкнов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Прямоугольник 5"/>
          <p:cNvSpPr/>
          <p:nvPr/>
        </p:nvSpPr>
        <p:spPr>
          <a:xfrm>
            <a:off x="900000" y="5445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вод: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2411280" y="5445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эти растения относят к голосемен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258920" y="770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ительная характеристика ели и сос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765000"/>
          <a:ext cx="7495920" cy="5329440"/>
        </p:xfrm>
        <a:graphic>
          <a:graphicData uri="http://schemas.openxmlformats.org/drawingml/2006/table">
            <a:tbl>
              <a:tblPr/>
              <a:tblGrid>
                <a:gridCol w="2263680"/>
                <a:gridCol w="2616120"/>
                <a:gridCol w="2616120"/>
              </a:tblGrid>
              <a:tr h="863640"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 сибир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обыкнов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поч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св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р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корневой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хвоинок на вет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изни хвои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изни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826920" y="1052640"/>
            <a:ext cx="7632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цените  свою активность на уро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! » - отвечал(а) по своей инициатив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?» - отвечал (а) по просьбе учител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0» - не отвечал (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468360" y="226440"/>
            <a:ext cx="82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Зеленый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мне было всё понятно, я не испытывал(а) затруднений при выполнении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Жёлтый 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у меня возникли некоторые трудности  при выполнении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Красный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 я не понял(а) материал урока и  не смог(ла) справиться с некоторыми зада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9:50:15Z</dcterms:created>
  <dc:creator>Живоглазова </dc:creator>
  <dc:description/>
  <dc:language>en-US</dc:language>
  <cp:lastModifiedBy>Admin</cp:lastModifiedBy>
  <dcterms:modified xsi:type="dcterms:W3CDTF">2014-04-15T04:56:35Z</dcterms:modified>
  <cp:revision>52</cp:revision>
  <dc:subject/>
  <dc:title> Презентация по биологии –  Отдел Голосеменные растения</dc:title>
</cp:coreProperties>
</file>